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722-B5D9-4611-ABA9-E73182D3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A57-C1A7-439E-B993-195AFEA0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D3D-154B-4C00-9F7E-09089A74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747-644B-4649-B23B-07C9E453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CF06-73E5-43E7-9115-EA53CC4C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FA0E-361D-4E01-8C93-64EA4AF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B415-14CE-4270-95A3-6234E19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82A0-E827-4303-8246-EA057823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BD1-C568-4B43-8AA7-157DBDF6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DA1-2AEE-47F1-8DE8-62EC8B2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A2F-AAEE-40D0-A979-D918E36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268-65FC-47F7-85C2-DE62A276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45A-879A-44E3-99A6-B4A9FC7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E98-29FC-459E-980F-EA2CDBD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812-762C-435A-9189-A1C3465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492D-D3C2-46CB-B3BB-0D0BB3A6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BD9B-4C57-4EA9-94AF-A441033E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35D-9466-4A5F-B9CB-27C36FA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531-6561-49CD-B217-8F670E0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415-937C-471B-A70E-D4B5E600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947-424C-42DC-8AFD-170E760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311-9661-4957-8839-50238E8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34E-43F1-4394-8753-F573FC0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701-42AF-4B6A-9E22-01B4A75F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ED1E-BA32-42C2-B9F6-FA41CE1F87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5FD-D4D3-4E72-8FF5-319483D6B2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ctory in Euro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80773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-E Da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7, 19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onditional surren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DR had died a few weeks previous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rry S. Trum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91120" y="3666960"/>
            <a:ext cx="4800600" cy="3002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2:48:58Z</dcterms:created>
  <dc:creator>Owner</dc:creator>
  <dc:description/>
  <dc:language>en-US</dc:language>
  <cp:lastModifiedBy>Owner</cp:lastModifiedBy>
  <dcterms:modified xsi:type="dcterms:W3CDTF">2010-04-07T05:08:02Z</dcterms:modified>
  <cp:revision>2</cp:revision>
  <dc:subject/>
  <dc:title>Victory in Europe</dc:title>
</cp:coreProperties>
</file>